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7.jpeg" ContentType="image/jpeg"/>
  <Override PartName="/ppt/media/image12.wmf" ContentType="image/x-wmf"/>
  <Override PartName="/ppt/media/image16.jpeg" ContentType="image/jpeg"/>
  <Override PartName="/ppt/media/image15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9D81-D431-41DF-AC73-31E23D9C7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FA61-A780-465B-8213-7BADCF63A1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A29F-8092-4DAF-8D16-3E121FD13A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50F0-E942-4153-A324-A618C65A44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4815-417A-4983-AF24-64F86A4F7A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B27C-A11E-467F-BDD8-83133E71A5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BDE3-2DE4-49D7-8504-5C7CC87E4A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2025-E1B8-4F29-8BEA-8A97845DCE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111A-3108-4E68-80D6-A81095C396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A168-C935-48C0-A368-E29E5E8440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C297-3932-46E9-A92E-3AE5D1D016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409B-6752-4B7A-9130-D0DFA091A6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BF6C-8447-4A7D-9F78-ECE71FDFB21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C05F-B949-4666-A498-0B386D1CD0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C6DF-2D2C-4F3B-9533-B63A739A3A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0FB3-B25C-458B-8C09-F532F16BEE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EC2F0-7840-432F-917E-6646A3312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1B38-5ED3-4C6B-AA32-379AC71E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0362-9713-42B0-974C-C343D947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31AC9-8C7A-4123-9F3F-B5272B6D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4834-A484-45FE-B745-7AEC6B79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7669-1821-4AB9-9695-EACB1237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7D8F-787D-4CF2-83C1-BBBDB21D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9ECE-BC72-4948-98A7-D921058B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373E-34EF-461E-BC81-B6DD47A9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6461-89EA-4984-A42C-94D81A4C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FFA7-22C1-4EA5-8D7C-8D7C53ED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5443A-05FC-4F61-98D7-7E1C7469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0611-D4D9-45DD-BB66-1DD36549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11A2-E847-4F9E-8F83-89142A65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DCE6-3E86-42C5-99DE-52D5949E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E849-886D-451D-BBDA-1A8537B2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BD7B-A8B6-4835-8980-CAB9F5F0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B5EEB-C972-4C9B-8082-DC0A851D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D93BB-1C29-4DEA-9ECB-2BEA475F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18BEF-D2DE-4B6B-B52C-1A94254A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D99E-7C49-4AC3-B2D4-B9B93279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EA1B-BCBB-4484-A5DE-196F144A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C8EA2-297D-41B4-AD57-A6CB4A9E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25AC9-0527-4DDD-A70E-87AC11D3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9BE4-6CD5-45C3-8ADD-27C8DA354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75B5-B890-4FA3-A0BD-28B27804AD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5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5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6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6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7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9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43000" y="1523520"/>
            <a:ext cx="7238880" cy="1752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Designing a FRC Robot, a Team Approach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914400" y="4443480"/>
            <a:ext cx="7391520" cy="165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y Bak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ident and Co-owner, AndyMark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 year mentor on FRC team 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3 Championship Woodie Flowers Award Win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cy should ensue… but a monarchy may come about during an impas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4" descr="crown_plastic_crowns_266691_l"/>
          <p:cNvPicPr/>
          <p:nvPr/>
        </p:nvPicPr>
        <p:blipFill>
          <a:blip r:embed="rId1"/>
          <a:stretch/>
        </p:blipFill>
        <p:spPr>
          <a:xfrm>
            <a:off x="3124080" y="3581280"/>
            <a:ext cx="2952720" cy="19335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andymark_logo_final"/>
          <p:cNvPicPr/>
          <p:nvPr/>
        </p:nvPicPr>
        <p:blipFill>
          <a:blip r:embed="rId2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7.  Putas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Bill Beatty, team 7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andymark_logo_final"/>
          <p:cNvPicPr/>
          <p:nvPr/>
        </p:nvPicPr>
        <p:blipFill>
          <a:blip r:embed="rId2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8.  Design Assign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m, grabber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t, structure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team (already in pla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 the 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let slackers bring you d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s daily and wee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 and moto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air or not to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2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4" descr="andymark_logo_final"/>
          <p:cNvPicPr/>
          <p:nvPr/>
        </p:nvPicPr>
        <p:blipFill>
          <a:blip r:embed="rId11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722729_bad_guy"/>
          <p:cNvPicPr/>
          <p:nvPr/>
        </p:nvPicPr>
        <p:blipFill>
          <a:blip r:embed="rId12"/>
          <a:stretch/>
        </p:blipFill>
        <p:spPr>
          <a:xfrm>
            <a:off x="6705720" y="2286000"/>
            <a:ext cx="1904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. Build a Robo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 it early, by week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 it early, fix it ear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gh it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et build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drivers 1 week to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software team 2 weeks to deb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ebrate mista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p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5" descr="890258_broken_glass"/>
          <p:cNvPicPr/>
          <p:nvPr/>
        </p:nvPicPr>
        <p:blipFill>
          <a:blip r:embed="rId9"/>
          <a:stretch/>
        </p:blipFill>
        <p:spPr>
          <a:xfrm>
            <a:off x="6248520" y="137160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andymark_logo_final"/>
          <p:cNvPicPr/>
          <p:nvPr/>
        </p:nvPicPr>
        <p:blipFill>
          <a:blip r:embed="rId10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0. Celebrate Succes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an open ho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 for fun, right before shipp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e, fix-it, and tw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jump_jumping_1031743_l"/>
          <p:cNvPicPr/>
          <p:nvPr/>
        </p:nvPicPr>
        <p:blipFill>
          <a:blip r:embed="rId5"/>
          <a:stretch/>
        </p:blipFill>
        <p:spPr>
          <a:xfrm>
            <a:off x="5638680" y="3886200"/>
            <a:ext cx="3067200" cy="20415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4" descr="andymark_logo_final"/>
          <p:cNvPicPr/>
          <p:nvPr/>
        </p:nvPicPr>
        <p:blipFill>
          <a:blip r:embed="rId6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4" descr="hongkong_marks_sign_471151_l"/>
          <p:cNvPicPr/>
          <p:nvPr/>
        </p:nvPicPr>
        <p:blipFill>
          <a:blip r:embed="rId1"/>
          <a:stretch/>
        </p:blipFill>
        <p:spPr>
          <a:xfrm>
            <a:off x="2514600" y="23623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4" descr="andymark_logo_final"/>
          <p:cNvPicPr/>
          <p:nvPr/>
        </p:nvPicPr>
        <p:blipFill>
          <a:blip r:embed="rId2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 tips from An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5" descr="727442_take_advice_3"/>
          <p:cNvPicPr/>
          <p:nvPr/>
        </p:nvPicPr>
        <p:blipFill>
          <a:blip r:embed="rId1"/>
          <a:stretch/>
        </p:blipFill>
        <p:spPr>
          <a:xfrm>
            <a:off x="5791320" y="365760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andymark_logo_final"/>
          <p:cNvPicPr/>
          <p:nvPr/>
        </p:nvPicPr>
        <p:blipFill>
          <a:blip r:embed="rId2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1. Pre-season task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team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e lea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up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4" descr="basketball_goal_sports_261898_l"/>
          <p:cNvPicPr/>
          <p:nvPr/>
        </p:nvPicPr>
        <p:blipFill>
          <a:blip r:embed="rId6"/>
          <a:stretch/>
        </p:blipFill>
        <p:spPr>
          <a:xfrm>
            <a:off x="6019920" y="3695760"/>
            <a:ext cx="2743200" cy="20527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andymark_logo_final"/>
          <p:cNvPicPr/>
          <p:nvPr/>
        </p:nvPicPr>
        <p:blipFill>
          <a:blip r:embed="rId7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2. Kickoff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 into equal sub-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Kickoff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tragg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the 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building the fie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y stu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Picture 6" descr="kickoff_binghamcup_1443208_l"/>
          <p:cNvPicPr/>
          <p:nvPr/>
        </p:nvPicPr>
        <p:blipFill>
          <a:blip r:embed="rId8"/>
          <a:stretch/>
        </p:blipFill>
        <p:spPr>
          <a:xfrm>
            <a:off x="4952880" y="300996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4" descr="andymark_logo_final"/>
          <p:cNvPicPr/>
          <p:nvPr/>
        </p:nvPicPr>
        <p:blipFill>
          <a:blip r:embed="rId9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3. Sub-Group Decision Process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 &amp; categorize ide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VERALL GAME 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itique, analyze, &amp; eliminate ide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k best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ee on overall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s 1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Picture 4" descr="professor_jerker_whiteboard_750288_l"/>
          <p:cNvPicPr/>
          <p:nvPr/>
        </p:nvPicPr>
        <p:blipFill>
          <a:blip r:embed="rId7"/>
          <a:stretch/>
        </p:blipFill>
        <p:spPr>
          <a:xfrm>
            <a:off x="5867280" y="4038480"/>
            <a:ext cx="2819520" cy="19288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" descr="andymark_logo_final"/>
          <p:cNvPicPr/>
          <p:nvPr/>
        </p:nvPicPr>
        <p:blipFill>
          <a:blip r:embed="rId8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4. Design Present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dience – everyone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b-teams present design concep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udents lead, adults help as need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y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4" descr="brianlamb_chrislott_nv07_1556480_l"/>
          <p:cNvPicPr/>
          <p:nvPr/>
        </p:nvPicPr>
        <p:blipFill>
          <a:blip r:embed="rId4"/>
          <a:stretch/>
        </p:blipFill>
        <p:spPr>
          <a:xfrm>
            <a:off x="5486400" y="3683160"/>
            <a:ext cx="3276720" cy="21747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andymark_logo_final"/>
          <p:cNvPicPr/>
          <p:nvPr/>
        </p:nvPicPr>
        <p:blipFill>
          <a:blip r:embed="rId5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5. Disown, sleep and dec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sub-team concepts are team prope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eep o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de the following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4" descr="sleep_Africa_sleepy_269700_l"/>
          <p:cNvPicPr/>
          <p:nvPr/>
        </p:nvPicPr>
        <p:blipFill>
          <a:blip r:embed="rId4"/>
          <a:stretch/>
        </p:blipFill>
        <p:spPr>
          <a:xfrm>
            <a:off x="5029200" y="3381480"/>
            <a:ext cx="3714840" cy="24573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andymark_logo_final"/>
          <p:cNvPicPr/>
          <p:nvPr/>
        </p:nvPicPr>
        <p:blipFill>
          <a:blip r:embed="rId5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6.  Make a deci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and critique, using G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scuss common ide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Decision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termine qualities and assign value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te each team’s idea per each qu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tal each sub-team’s poi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ghest point total wi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cus on concept with highest point tot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dd common features from other concep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4" descr="andymark_logo_final"/>
          <p:cNvPicPr/>
          <p:nvPr/>
        </p:nvPicPr>
        <p:blipFill>
          <a:blip r:embed="rId6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4"/>
          <p:cNvGraphicFramePr/>
          <p:nvPr/>
        </p:nvGraphicFramePr>
        <p:xfrm>
          <a:off x="380880" y="533520"/>
          <a:ext cx="8382240" cy="552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382240" cy="55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1" name="Picture 4" descr="andymark_logo_final"/>
          <p:cNvPicPr/>
          <p:nvPr/>
        </p:nvPicPr>
        <p:blipFill>
          <a:blip r:embed="rId3"/>
          <a:stretch/>
        </p:blipFill>
        <p:spPr>
          <a:xfrm>
            <a:off x="6705720" y="6095880"/>
            <a:ext cx="20206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03:44:56Z</dcterms:created>
  <dc:creator>Andy Baker</dc:creator>
  <dc:description/>
  <dc:language>en-US</dc:language>
  <cp:lastModifiedBy>Owner</cp:lastModifiedBy>
  <dcterms:modified xsi:type="dcterms:W3CDTF">2009-10-06T19:53:30Z</dcterms:modified>
  <cp:revision>3</cp:revision>
  <dc:subject/>
  <dc:title>Designing a FRC Robot, a Team Approach</dc:title>
</cp:coreProperties>
</file>