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7.jpeg" ContentType="image/jpeg"/>
  <Override PartName="/ppt/media/image12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0DB6-302A-4DE9-BB57-0BA3D3E18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D582-6AD4-49F0-8170-B7D45EEFD2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C2D-262C-49A4-ACDF-56222E704C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95E1-9E4B-4EB7-9090-8514D22BD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DF84-F9BD-4432-980D-9F5A66632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FDC4-4B55-4952-9E9C-BAC8766F9A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8168-A5AE-4C72-B450-EA1501AF00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4B2B-3E5A-4AC0-AB42-8DEE061599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EB62-B466-41B1-B7C6-67A467F01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1F65-4396-4558-85E2-261AA802C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EC66-1EC6-4A47-B013-F7D4F7CC74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5ABA-BE1A-4D0E-BC10-474B0B2F9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3D11-FD80-4C00-8FFB-EF6937A1EA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43F8-C74C-4CBB-B6D9-BACEB83972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7FB9-EA81-462B-BA84-98B8811F80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F3BD-EF2A-4159-8372-4DAF1DE768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2F4F-7034-4890-9D16-84C81580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5148-308B-4B8C-B27B-7163B1A9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C7D6-2A29-45CE-BF5A-FE44F77E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C5BE-C070-45CE-BFBE-87A7ADE5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9927-26D1-4EA0-9592-F32EE9C8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DB0C-53F0-43C4-A7C6-76ABDF6C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A129-39F3-4845-A5FB-38D844DA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F9A7-2ADF-488B-8E1C-8F943BF5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BDB-6DD9-4CE4-8A01-184DA3CF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2431-B5EE-4528-B598-C925093D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505E-669C-4D7E-A668-838861F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1DB6-4C5E-41EF-983F-6350DBC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2FC8-CE36-4244-A993-87FEFCD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7D7F-A167-4EAF-AE50-B6258EDA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C360-4C79-48E1-885A-32A3A9C1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392E-F40B-48AD-95CB-B0962486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0C97-65A8-44C1-873D-51682260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79D9-18DB-463C-836E-E3E73AF0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5A5D-94F9-410F-9E93-F9672A4B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2792-ECE3-44DB-A993-848B95C2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D5DF-5224-4595-AB3D-8969ED58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D0CB-F354-4874-AA1E-8BFAE82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8728-F2AB-4515-88CF-36F64F2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4E3F-67D0-4C36-8E79-F10F9587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E571-4381-45AB-9CEF-E38B2ABB0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D3EC-4559-4932-936E-C6DD3243E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15235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Designing a FRC Robot, a Team Approach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14400" y="4443480"/>
            <a:ext cx="73915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y B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and Co-owner, AndyMark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 year mentor on FRC team 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Championship Woodie Flowers Award Wi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 should ensue… but a monarchy may come about during an imp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4" descr="crown_plastic_crowns_266691_l"/>
          <p:cNvPicPr/>
          <p:nvPr/>
        </p:nvPicPr>
        <p:blipFill>
          <a:blip r:embed="rId1"/>
          <a:stretch/>
        </p:blipFill>
        <p:spPr>
          <a:xfrm>
            <a:off x="3124080" y="3581280"/>
            <a:ext cx="2952720" cy="19335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7.  Putas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Bill Beatty, team 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8.  Design Assign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, grabber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, structur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team (already in pl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slackers bring you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daily and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and mot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ir or not to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2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4" descr="andymark_logo_final"/>
          <p:cNvPicPr/>
          <p:nvPr/>
        </p:nvPicPr>
        <p:blipFill>
          <a:blip r:embed="rId11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722729_bad_guy"/>
          <p:cNvPicPr/>
          <p:nvPr/>
        </p:nvPicPr>
        <p:blipFill>
          <a:blip r:embed="rId12"/>
          <a:stretch/>
        </p:blipFill>
        <p:spPr>
          <a:xfrm>
            <a:off x="6705720" y="228600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. Build a Robo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 it early, by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it early, fix it ea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 it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build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drivers 1 week to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oftware team 2 weeks to deb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e mist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p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5" descr="890258_broken_glass"/>
          <p:cNvPicPr/>
          <p:nvPr/>
        </p:nvPicPr>
        <p:blipFill>
          <a:blip r:embed="rId9"/>
          <a:stretch/>
        </p:blipFill>
        <p:spPr>
          <a:xfrm>
            <a:off x="6248520" y="1371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andymark_logo_final"/>
          <p:cNvPicPr/>
          <p:nvPr/>
        </p:nvPicPr>
        <p:blipFill>
          <a:blip r:embed="rId10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. Celebrate Succ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n open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for fun, right before sh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, fix-it, and tw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ump_jumping_1031743_l"/>
          <p:cNvPicPr/>
          <p:nvPr/>
        </p:nvPicPr>
        <p:blipFill>
          <a:blip r:embed="rId5"/>
          <a:stretch/>
        </p:blipFill>
        <p:spPr>
          <a:xfrm>
            <a:off x="5638680" y="3886200"/>
            <a:ext cx="3067200" cy="2041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andymark_logo_final"/>
          <p:cNvPicPr/>
          <p:nvPr/>
        </p:nvPicPr>
        <p:blipFill>
          <a:blip r:embed="rId6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hongkong_marks_sign_471151_l"/>
          <p:cNvPicPr/>
          <p:nvPr/>
        </p:nvPicPr>
        <p:blipFill>
          <a:blip r:embed="rId1"/>
          <a:stretch/>
        </p:blipFill>
        <p:spPr>
          <a:xfrm>
            <a:off x="2514600" y="23623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tips from An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5" descr="727442_take_advice_3"/>
          <p:cNvPicPr/>
          <p:nvPr/>
        </p:nvPicPr>
        <p:blipFill>
          <a:blip r:embed="rId1"/>
          <a:stretch/>
        </p:blipFill>
        <p:spPr>
          <a:xfrm>
            <a:off x="5791320" y="365760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. Pre-season tas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eam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" descr="basketball_goal_sports_261898_l"/>
          <p:cNvPicPr/>
          <p:nvPr/>
        </p:nvPicPr>
        <p:blipFill>
          <a:blip r:embed="rId6"/>
          <a:stretch/>
        </p:blipFill>
        <p:spPr>
          <a:xfrm>
            <a:off x="6019920" y="369576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andymark_logo_final"/>
          <p:cNvPicPr/>
          <p:nvPr/>
        </p:nvPicPr>
        <p:blipFill>
          <a:blip r:embed="rId7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. Kickoff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equal sub-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Kickoff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tragg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uilding th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y st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kickoff_binghamcup_1443208_l"/>
          <p:cNvPicPr/>
          <p:nvPr/>
        </p:nvPicPr>
        <p:blipFill>
          <a:blip r:embed="rId8"/>
          <a:stretch/>
        </p:blipFill>
        <p:spPr>
          <a:xfrm>
            <a:off x="4952880" y="30099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andymark_logo_final"/>
          <p:cNvPicPr/>
          <p:nvPr/>
        </p:nvPicPr>
        <p:blipFill>
          <a:blip r:embed="rId9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3. Sub-Group Decision Proces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&amp; categorize id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VERALL GAME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ique, analyze, &amp; eliminate id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bes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 on overal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s 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professor_jerker_whiteboard_750288_l"/>
          <p:cNvPicPr/>
          <p:nvPr/>
        </p:nvPicPr>
        <p:blipFill>
          <a:blip r:embed="rId7"/>
          <a:stretch/>
        </p:blipFill>
        <p:spPr>
          <a:xfrm>
            <a:off x="5867280" y="4038480"/>
            <a:ext cx="2819520" cy="1928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andymark_logo_final"/>
          <p:cNvPicPr/>
          <p:nvPr/>
        </p:nvPicPr>
        <p:blipFill>
          <a:blip r:embed="rId8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4. Design Present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dience – every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-teams present design concep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lead, adults help as nee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brianlamb_chrislott_nv07_1556480_l"/>
          <p:cNvPicPr/>
          <p:nvPr/>
        </p:nvPicPr>
        <p:blipFill>
          <a:blip r:embed="rId4"/>
          <a:stretch/>
        </p:blipFill>
        <p:spPr>
          <a:xfrm>
            <a:off x="5486400" y="3683160"/>
            <a:ext cx="3276720" cy="2174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andymark_logo_final"/>
          <p:cNvPicPr/>
          <p:nvPr/>
        </p:nvPicPr>
        <p:blipFill>
          <a:blip r:embed="rId5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5. Disown, sleep and dec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-team concepts are team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o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the following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sleep_Africa_sleepy_269700_l"/>
          <p:cNvPicPr/>
          <p:nvPr/>
        </p:nvPicPr>
        <p:blipFill>
          <a:blip r:embed="rId4"/>
          <a:stretch/>
        </p:blipFill>
        <p:spPr>
          <a:xfrm>
            <a:off x="5029200" y="3381480"/>
            <a:ext cx="3714840" cy="2457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andymark_logo_final"/>
          <p:cNvPicPr/>
          <p:nvPr/>
        </p:nvPicPr>
        <p:blipFill>
          <a:blip r:embed="rId5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6.  Make a deci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critique, using G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uss common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Decis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qualities and assign valu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te each team’s idea per each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tal each sub-team’s poi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est point total w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cus on concept with highest point to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 common features from other conce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andymark_logo_final"/>
          <p:cNvPicPr/>
          <p:nvPr/>
        </p:nvPicPr>
        <p:blipFill>
          <a:blip r:embed="rId6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4"/>
          <p:cNvGraphicFramePr/>
          <p:nvPr/>
        </p:nvGraphicFramePr>
        <p:xfrm>
          <a:off x="380880" y="533520"/>
          <a:ext cx="8382240" cy="55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3822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Picture 4" descr="andymark_logo_final"/>
          <p:cNvPicPr/>
          <p:nvPr/>
        </p:nvPicPr>
        <p:blipFill>
          <a:blip r:embed="rId3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3:44:56Z</dcterms:created>
  <dc:creator>Andy Baker</dc:creator>
  <dc:description/>
  <dc:language>en-US</dc:language>
  <cp:lastModifiedBy>Owner</cp:lastModifiedBy>
  <dcterms:modified xsi:type="dcterms:W3CDTF">2009-10-06T19:53:30Z</dcterms:modified>
  <cp:revision>3</cp:revision>
  <dc:subject/>
  <dc:title>Designing a FRC Robot, a Team Approach</dc:title>
</cp:coreProperties>
</file>