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7.jpeg" ContentType="image/jpeg"/>
  <Override PartName="/ppt/media/image12.wmf" ContentType="image/x-wmf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AD7A-956F-4F1E-8081-61774E796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A898-7564-4786-A471-63C8B32C65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74A7-FCD4-47D7-A6F1-B999207DA2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9F52-6D70-4255-9ABA-CE876B9954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885E-D43F-44C2-9269-2286F8FE1C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404E-E872-4685-83F9-5A9202B135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ADBF-196F-48CB-9594-AA24F46455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F05B-B284-4AEF-B376-DA018F8A97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B8A8-65E3-453C-8354-2F7170B070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3814-DFBB-490C-B02D-E61CD96D3E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9B9B-662F-45F2-A814-1AC8CC076E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93CF-9AE2-401D-BFBA-71797DC078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1614-CD70-45F2-B3D5-BAE2D55AEB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3A13-0201-4423-AEAA-5A36E745A5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C1FD-3FBD-4D32-AEC4-BB69290F07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20BD-D203-4D97-9C0A-CAE865558E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DD43-6823-4FB3-A0F7-834E8783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F1D2-8CD5-4BBE-9674-D9BDB15E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24C6-050A-496E-8D17-B41CD8F1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B69A-626C-4BCB-82BE-6BB254C2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695A-F421-44BC-91AB-26C4AA4B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D900-45C8-440B-B1A1-ADBFC689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C0E8-5C34-418B-8D10-0B3BC147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CA10-F81F-44DE-B525-945ADC73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D683-4F57-4E8B-8A37-82B756B8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DE96-DFFF-4C50-AB45-58D9A84C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299F-E21F-49CC-ABD3-1F79BD0A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C0D1-D3A5-496B-9A23-5BDE5B28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A628-BF04-4956-B869-E5389322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AB00-6D61-4A11-B837-6572BAFE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A7F7-AA5D-4E04-8D7E-0A59C845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C84C-F240-424F-BF1D-EA9F68E6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996D-E4CE-4E10-95BD-48BB5F38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A219-470E-4947-BB07-8E17C595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7D4B-67F9-4C44-9544-BCBD3B3E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66FE6-9C9A-44BB-9B2A-800ABC8E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F2EC-5E46-4BCD-B21B-FAA7D971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0832-048B-4974-9607-C810BB72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5CE5-A3B4-4369-A9E7-4189649B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94F1-A0C2-4B5F-8722-1376AF7B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53EE-6592-4020-9BF7-483CC8D75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9130-2565-4FD2-AB97-C24AB5A13E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5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7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9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43000" y="1523520"/>
            <a:ext cx="7238880" cy="1752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Designing a FRC Robot, a Team Approach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914400" y="4443480"/>
            <a:ext cx="7391520" cy="16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y Bak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ident and Co-owner, AndyMark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 year mentor on FRC team 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3 Championship Woodie Flowers Award Win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cy should ensue… but a monarchy may come about during an impa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4" descr="crown_plastic_crowns_266691_l"/>
          <p:cNvPicPr/>
          <p:nvPr/>
        </p:nvPicPr>
        <p:blipFill>
          <a:blip r:embed="rId1"/>
          <a:stretch/>
        </p:blipFill>
        <p:spPr>
          <a:xfrm>
            <a:off x="3124080" y="3581280"/>
            <a:ext cx="2952720" cy="19335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andymark_logo_final"/>
          <p:cNvPicPr/>
          <p:nvPr/>
        </p:nvPicPr>
        <p:blipFill>
          <a:blip r:embed="rId2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7.  Putas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Bill Beatty, team 7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andymark_logo_final"/>
          <p:cNvPicPr/>
          <p:nvPr/>
        </p:nvPicPr>
        <p:blipFill>
          <a:blip r:embed="rId2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8.  Design Assign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m, grabber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t, structure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team (already in pl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the 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let slackers bring you d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s daily and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 and mot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ir or not to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2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4" descr="andymark_logo_final"/>
          <p:cNvPicPr/>
          <p:nvPr/>
        </p:nvPicPr>
        <p:blipFill>
          <a:blip r:embed="rId11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722729_bad_guy"/>
          <p:cNvPicPr/>
          <p:nvPr/>
        </p:nvPicPr>
        <p:blipFill>
          <a:blip r:embed="rId12"/>
          <a:stretch/>
        </p:blipFill>
        <p:spPr>
          <a:xfrm>
            <a:off x="6705720" y="2286000"/>
            <a:ext cx="1904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. Build a Robo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 it early, by week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 it early, fix it ear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gh it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 build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drivers 1 week to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software team 2 weeks to deb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ebrate mista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p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5" descr="890258_broken_glass"/>
          <p:cNvPicPr/>
          <p:nvPr/>
        </p:nvPicPr>
        <p:blipFill>
          <a:blip r:embed="rId9"/>
          <a:stretch/>
        </p:blipFill>
        <p:spPr>
          <a:xfrm>
            <a:off x="6248520" y="137160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andymark_logo_final"/>
          <p:cNvPicPr/>
          <p:nvPr/>
        </p:nvPicPr>
        <p:blipFill>
          <a:blip r:embed="rId10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0. Celebrate Succes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n open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 for fun, right before shi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, fix-it, and tw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jump_jumping_1031743_l"/>
          <p:cNvPicPr/>
          <p:nvPr/>
        </p:nvPicPr>
        <p:blipFill>
          <a:blip r:embed="rId5"/>
          <a:stretch/>
        </p:blipFill>
        <p:spPr>
          <a:xfrm>
            <a:off x="5638680" y="3886200"/>
            <a:ext cx="3067200" cy="20415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4" descr="andymark_logo_final"/>
          <p:cNvPicPr/>
          <p:nvPr/>
        </p:nvPicPr>
        <p:blipFill>
          <a:blip r:embed="rId6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4" descr="hongkong_marks_sign_471151_l"/>
          <p:cNvPicPr/>
          <p:nvPr/>
        </p:nvPicPr>
        <p:blipFill>
          <a:blip r:embed="rId1"/>
          <a:stretch/>
        </p:blipFill>
        <p:spPr>
          <a:xfrm>
            <a:off x="2514600" y="23623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" descr="andymark_logo_final"/>
          <p:cNvPicPr/>
          <p:nvPr/>
        </p:nvPicPr>
        <p:blipFill>
          <a:blip r:embed="rId2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 tips from An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5" descr="727442_take_advice_3"/>
          <p:cNvPicPr/>
          <p:nvPr/>
        </p:nvPicPr>
        <p:blipFill>
          <a:blip r:embed="rId1"/>
          <a:stretch/>
        </p:blipFill>
        <p:spPr>
          <a:xfrm>
            <a:off x="5791320" y="365760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andymark_logo_final"/>
          <p:cNvPicPr/>
          <p:nvPr/>
        </p:nvPicPr>
        <p:blipFill>
          <a:blip r:embed="rId2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. Pre-season task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team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l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up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4" descr="basketball_goal_sports_261898_l"/>
          <p:cNvPicPr/>
          <p:nvPr/>
        </p:nvPicPr>
        <p:blipFill>
          <a:blip r:embed="rId6"/>
          <a:stretch/>
        </p:blipFill>
        <p:spPr>
          <a:xfrm>
            <a:off x="6019920" y="3695760"/>
            <a:ext cx="2743200" cy="20527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andymark_logo_final"/>
          <p:cNvPicPr/>
          <p:nvPr/>
        </p:nvPicPr>
        <p:blipFill>
          <a:blip r:embed="rId7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2. Kickoff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 into equal sub-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Kickoff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tragg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the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building the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y st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6" descr="kickoff_binghamcup_1443208_l"/>
          <p:cNvPicPr/>
          <p:nvPr/>
        </p:nvPicPr>
        <p:blipFill>
          <a:blip r:embed="rId8"/>
          <a:stretch/>
        </p:blipFill>
        <p:spPr>
          <a:xfrm>
            <a:off x="4952880" y="300996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andymark_logo_final"/>
          <p:cNvPicPr/>
          <p:nvPr/>
        </p:nvPicPr>
        <p:blipFill>
          <a:blip r:embed="rId9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3. Sub-Group Decision Proces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&amp; categorize ide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VERALL GAME 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itique, analyze, &amp; eliminate ide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k best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ee on overall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s 1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4" descr="professor_jerker_whiteboard_750288_l"/>
          <p:cNvPicPr/>
          <p:nvPr/>
        </p:nvPicPr>
        <p:blipFill>
          <a:blip r:embed="rId7"/>
          <a:stretch/>
        </p:blipFill>
        <p:spPr>
          <a:xfrm>
            <a:off x="5867280" y="4038480"/>
            <a:ext cx="2819520" cy="19288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" descr="andymark_logo_final"/>
          <p:cNvPicPr/>
          <p:nvPr/>
        </p:nvPicPr>
        <p:blipFill>
          <a:blip r:embed="rId8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4. Design Present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dience – everyo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-teams present design concep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ents lead, adults help as nee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y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4" descr="brianlamb_chrislott_nv07_1556480_l"/>
          <p:cNvPicPr/>
          <p:nvPr/>
        </p:nvPicPr>
        <p:blipFill>
          <a:blip r:embed="rId4"/>
          <a:stretch/>
        </p:blipFill>
        <p:spPr>
          <a:xfrm>
            <a:off x="5486400" y="3683160"/>
            <a:ext cx="3276720" cy="21747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andymark_logo_final"/>
          <p:cNvPicPr/>
          <p:nvPr/>
        </p:nvPicPr>
        <p:blipFill>
          <a:blip r:embed="rId5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5. Disown, sleep and dec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b-team concepts are team prop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eep o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de the following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4" descr="sleep_Africa_sleepy_269700_l"/>
          <p:cNvPicPr/>
          <p:nvPr/>
        </p:nvPicPr>
        <p:blipFill>
          <a:blip r:embed="rId4"/>
          <a:stretch/>
        </p:blipFill>
        <p:spPr>
          <a:xfrm>
            <a:off x="5029200" y="3381480"/>
            <a:ext cx="3714840" cy="24573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andymark_logo_final"/>
          <p:cNvPicPr/>
          <p:nvPr/>
        </p:nvPicPr>
        <p:blipFill>
          <a:blip r:embed="rId5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6.  Make a deci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and critique, using G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cuss common ide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Decision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qualities and assign valu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te each team’s idea per each qu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tal each sub-team’s poi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ghest point total wi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cus on concept with highest point tot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d common features from other concep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4" descr="andymark_logo_final"/>
          <p:cNvPicPr/>
          <p:nvPr/>
        </p:nvPicPr>
        <p:blipFill>
          <a:blip r:embed="rId6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4"/>
          <p:cNvGraphicFramePr/>
          <p:nvPr/>
        </p:nvGraphicFramePr>
        <p:xfrm>
          <a:off x="380880" y="533520"/>
          <a:ext cx="8382240" cy="552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38224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1" name="Picture 4" descr="andymark_logo_final"/>
          <p:cNvPicPr/>
          <p:nvPr/>
        </p:nvPicPr>
        <p:blipFill>
          <a:blip r:embed="rId3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03:44:56Z</dcterms:created>
  <dc:creator>Andy Baker</dc:creator>
  <dc:description/>
  <dc:language>en-US</dc:language>
  <cp:lastModifiedBy>Owner</cp:lastModifiedBy>
  <dcterms:modified xsi:type="dcterms:W3CDTF">2009-10-06T19:53:30Z</dcterms:modified>
  <cp:revision>3</cp:revision>
  <dc:subject/>
  <dc:title>Designing a FRC Robot, a Team Approach</dc:title>
</cp:coreProperties>
</file>