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494-C6C3-4CB6-AFE6-BAB92AB57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025A-59E4-44ED-BB88-7D935959A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D8D9-826A-487B-8E57-52FF94CB3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AE6-B772-4580-9F5A-BA6BB7470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178-AD19-4A93-92C3-88C695C27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D1C-EFF7-4FD4-95D7-9F77DA0EB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FE8-5DE8-428D-869B-9A89AAB4A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F06-AFE1-4DAF-A769-8D8C0F92E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EE9-74AF-4340-A478-BC49DB89B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7FF7-971E-4602-AFBE-531B8B063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7A52-306B-43AF-B6A0-2D82337CDD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2B4-4580-4E27-969B-F42D87BD3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119-C399-49C5-B266-890F4205B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94A2-DC37-443D-B513-B459B7024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D65-2815-4800-940D-90F67FF62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2C8-702B-43D9-90F9-103FAD60B5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8EC3-45AD-429B-B94E-37EFC2F6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6B23-5A77-441B-84D0-D98B28B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ADCC-C3B0-4CBA-82CD-86F5BCA4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7623-1686-4F7F-BCE1-B836C595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572-A98D-4C7B-B24E-2499288D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E22-DC49-4B96-97C5-E894A3A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99C3-65DD-4152-97BA-C94AF85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05EB-A3A4-49D1-A7F2-8A81636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29C-3E15-476A-81E3-77095146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F24D-F17B-4081-8F9C-691913C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306F-1943-4A3F-8C2E-9525125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DC9D-0A1D-4F7E-ADEC-E37CBA3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299-CE84-4B02-AB7E-BB7A14B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563-F226-4315-A3B9-EA2B8DB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70C-6AB8-4A3A-89E0-75BFEB5E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A0AB-71C1-423A-BB73-40851FB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14C6-E523-46D4-BC4C-EE977BAB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F8B8-8337-40C5-8586-61FC9AE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BB22-1652-45A8-B4C8-39FCFE60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91F7-A671-45DB-80B2-C087059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F704-8899-438B-B480-1B083DC8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9985-E973-4829-B3B7-8511F57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0084-5DE3-4880-ACBF-CEE0E5F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C8BC-4A01-458C-B33F-2247C32F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3DE-E284-494C-8E73-D5B191E8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2AE-F615-4D46-BCCB-1900B3F34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Designing a FRC Robot, a Team Approac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400" y="4443480"/>
            <a:ext cx="73915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y B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and Co-owner, AndyMark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year mentor on FRC team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Championship Woodie Flowers Award W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 should ensue… but a monarchy may come about during an imp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crown_plastic_crowns_266691_l"/>
          <p:cNvPicPr/>
          <p:nvPr/>
        </p:nvPicPr>
        <p:blipFill>
          <a:blip r:embed="rId1"/>
          <a:stretch/>
        </p:blipFill>
        <p:spPr>
          <a:xfrm>
            <a:off x="3124080" y="3581280"/>
            <a:ext cx="2952720" cy="1933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.  Putas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Bill Beatty, team 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8.  Design Assign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, grabb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, struc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team (already in pl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slackers bring you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daily and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and mot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ir or not to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2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andymark_logo_final"/>
          <p:cNvPicPr/>
          <p:nvPr/>
        </p:nvPicPr>
        <p:blipFill>
          <a:blip r:embed="rId11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722729_bad_guy"/>
          <p:cNvPicPr/>
          <p:nvPr/>
        </p:nvPicPr>
        <p:blipFill>
          <a:blip r:embed="rId12"/>
          <a:stretch/>
        </p:blipFill>
        <p:spPr>
          <a:xfrm>
            <a:off x="6705720" y="22860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. Build a Rob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t early, by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t early, fix it ea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 i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build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drivers 1 week to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oftware team 2 weeks to deb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mist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p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890258_broken_glass"/>
          <p:cNvPicPr/>
          <p:nvPr/>
        </p:nvPicPr>
        <p:blipFill>
          <a:blip r:embed="rId9"/>
          <a:stretch/>
        </p:blipFill>
        <p:spPr>
          <a:xfrm>
            <a:off x="6248520" y="1371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andymark_logo_final"/>
          <p:cNvPicPr/>
          <p:nvPr/>
        </p:nvPicPr>
        <p:blipFill>
          <a:blip r:embed="rId10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. Celebrate Suc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ope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for fun, right before 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, fix-it, and t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ump_jumping_1031743_l"/>
          <p:cNvPicPr/>
          <p:nvPr/>
        </p:nvPicPr>
        <p:blipFill>
          <a:blip r:embed="rId5"/>
          <a:stretch/>
        </p:blipFill>
        <p:spPr>
          <a:xfrm>
            <a:off x="5638680" y="3886200"/>
            <a:ext cx="3067200" cy="2041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hongkong_marks_sign_471151_l"/>
          <p:cNvPicPr/>
          <p:nvPr/>
        </p:nvPicPr>
        <p:blipFill>
          <a:blip r:embed="rId1"/>
          <a:stretch/>
        </p:blipFill>
        <p:spPr>
          <a:xfrm>
            <a:off x="2514600" y="23623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tips from A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727442_take_advice_3"/>
          <p:cNvPicPr/>
          <p:nvPr/>
        </p:nvPicPr>
        <p:blipFill>
          <a:blip r:embed="rId1"/>
          <a:stretch/>
        </p:blipFill>
        <p:spPr>
          <a:xfrm>
            <a:off x="5791320" y="36576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. Pre-season tas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eam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basketball_goal_sports_261898_l"/>
          <p:cNvPicPr/>
          <p:nvPr/>
        </p:nvPicPr>
        <p:blipFill>
          <a:blip r:embed="rId6"/>
          <a:stretch/>
        </p:blipFill>
        <p:spPr>
          <a:xfrm>
            <a:off x="6019920" y="369576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andymark_logo_final"/>
          <p:cNvPicPr/>
          <p:nvPr/>
        </p:nvPicPr>
        <p:blipFill>
          <a:blip r:embed="rId7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. Kickof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equal sub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Kickoff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ragg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uilding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kickoff_binghamcup_1443208_l"/>
          <p:cNvPicPr/>
          <p:nvPr/>
        </p:nvPicPr>
        <p:blipFill>
          <a:blip r:embed="rId8"/>
          <a:stretch/>
        </p:blipFill>
        <p:spPr>
          <a:xfrm>
            <a:off x="4952880" y="30099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andymark_logo_final"/>
          <p:cNvPicPr/>
          <p:nvPr/>
        </p:nvPicPr>
        <p:blipFill>
          <a:blip r:embed="rId9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Sub-Group Decision Proces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&amp; categorize id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VERALL GAME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ique, analyze, &amp; eliminate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be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overal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s 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professor_jerker_whiteboard_750288_l"/>
          <p:cNvPicPr/>
          <p:nvPr/>
        </p:nvPicPr>
        <p:blipFill>
          <a:blip r:embed="rId7"/>
          <a:stretch/>
        </p:blipFill>
        <p:spPr>
          <a:xfrm>
            <a:off x="5867280" y="4038480"/>
            <a:ext cx="2819520" cy="1928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andymark_logo_final"/>
          <p:cNvPicPr/>
          <p:nvPr/>
        </p:nvPicPr>
        <p:blipFill>
          <a:blip r:embed="rId8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. Design 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dience – every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-teams present design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lead, adults help as nee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brianlamb_chrislott_nv07_1556480_l"/>
          <p:cNvPicPr/>
          <p:nvPr/>
        </p:nvPicPr>
        <p:blipFill>
          <a:blip r:embed="rId4"/>
          <a:stretch/>
        </p:blipFill>
        <p:spPr>
          <a:xfrm>
            <a:off x="5486400" y="368316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5. Disown, sleep and dec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-team concepts are team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o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the following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sleep_Africa_sleepy_269700_l"/>
          <p:cNvPicPr/>
          <p:nvPr/>
        </p:nvPicPr>
        <p:blipFill>
          <a:blip r:embed="rId4"/>
          <a:stretch/>
        </p:blipFill>
        <p:spPr>
          <a:xfrm>
            <a:off x="5029200" y="3381480"/>
            <a:ext cx="3714840" cy="245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6.  Make a dec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critique, using 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uss common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ecis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qualities and assign valu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 each team’s idea per each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each sub-team’s po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est point total w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 on concept with highest point to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common features from other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4"/>
          <p:cNvGraphicFramePr/>
          <p:nvPr/>
        </p:nvGraphicFramePr>
        <p:xfrm>
          <a:off x="380880" y="533520"/>
          <a:ext cx="8382240" cy="55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3822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Picture 4" descr="andymark_logo_final"/>
          <p:cNvPicPr/>
          <p:nvPr/>
        </p:nvPicPr>
        <p:blipFill>
          <a:blip r:embed="rId3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3:44:56Z</dcterms:created>
  <dc:creator>Andy Baker</dc:creator>
  <dc:description/>
  <dc:language>en-US</dc:language>
  <cp:lastModifiedBy>Owner</cp:lastModifiedBy>
  <dcterms:modified xsi:type="dcterms:W3CDTF">2009-10-06T19:53:30Z</dcterms:modified>
  <cp:revision>3</cp:revision>
  <dc:subject/>
  <dc:title>Designing a FRC Robot, a Team Approach</dc:title>
</cp:coreProperties>
</file>